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33BA-B964-4F8D-BD3C-6165D196A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DE94-28F4-4065-B1D8-8F3282D22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85E-8136-4507-9B7A-03E71FCB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5CA-25D5-4DB2-9901-8A4BF303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8C8-2CFA-404A-8FA3-925B16BD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07F-1A8B-4F09-8CE9-645BF104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CEF-2651-4037-9203-72AEB8B3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8DD-9A84-4929-B394-07209564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8EF-5230-46E5-99EA-B9D0257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4F8-5874-4CD3-814C-16BE7B4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212-1A72-4EBE-A047-EFDC0950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AEF-88B9-4077-B043-89FE3E8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414-73F9-499B-A8BB-01B26A7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BE7-7836-4EC5-8F7F-1F0FCCE9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9EBC-0DB1-4B3D-BE18-B7AD14C5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619280"/>
            <a:ext cx="7924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Ethiopian Livestock Feed (ELF) Project </a:t>
            </a:r>
            <a:br>
              <a:rPr sz="2500"/>
            </a:br>
            <a:r>
              <a:rPr b="1" lang="en-US" sz="2900" spc="-1" strike="noStrike">
                <a:solidFill>
                  <a:srgbClr val="558ed5"/>
                </a:solidFill>
                <a:latin typeface="Calibri"/>
              </a:rPr>
              <a:t>FEAST Field Report - Sheep</a:t>
            </a:r>
            <a:br>
              <a:rPr sz="18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944880" y="304920"/>
            <a:ext cx="1160640" cy="116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My Pictures\logos\eiar_logo.jpg"/>
          <p:cNvPicPr/>
          <p:nvPr/>
        </p:nvPicPr>
        <p:blipFill>
          <a:blip r:embed="rId2"/>
          <a:stretch/>
        </p:blipFill>
        <p:spPr>
          <a:xfrm>
            <a:off x="7620120" y="155520"/>
            <a:ext cx="920520" cy="146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My Pictures\logos\ARARI_logo.jpg"/>
          <p:cNvPicPr/>
          <p:nvPr/>
        </p:nvPicPr>
        <p:blipFill>
          <a:blip r:embed="rId3"/>
          <a:stretch/>
        </p:blipFill>
        <p:spPr>
          <a:xfrm>
            <a:off x="609480" y="279360"/>
            <a:ext cx="1219320" cy="1095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neberu Teferra, Solomon Gizaw, Lemma Yohanis, Shenkute Goshim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chalew Tsegah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1471680" y="257004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ividual Livestock Hol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verage Livestock Holdings and Uses  </a:t>
            </a:r>
            <a:br>
              <a:rPr sz="27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A Group Discu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6200" y="1295280"/>
            <a:ext cx="8879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ment of Livestock Spe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: traditional livestock ho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ing practice: open grazing in communal areas and stall-f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processing: chopping of maize stover, preparation of mixed rations composed of molasses, noug cake and atela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practices vary according to the season; e.g. oxen are supplemented during Feb. to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ntity of Feed Purchased over a 12 month Period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M Content of Total Die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4" descr=""/>
          <p:cNvPicPr/>
          <p:nvPr/>
        </p:nvPicPr>
        <p:blipFill>
          <a:blip r:embed="rId1"/>
          <a:stretch/>
        </p:blipFill>
        <p:spPr>
          <a:xfrm>
            <a:off x="450720" y="1060560"/>
            <a:ext cx="82425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 Content of Total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242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put and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redit service in the are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al credit and saving cooperative is yet to build its capacity to give credit servi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land shortage due to high population press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fallowing practice in the ar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cropping per year is practic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 like fertilizer (Urea and DAP), cement and irrigation equipments are available in the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ervices are not timely and of standard qual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Methodology: PRA and Individual 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site/village: Godino Weg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district:  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: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participants present: 4 males and 1 fem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  14/03/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ime of PRA: 10:55 a.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 time of PRA:  12:25 p.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ime: 1:30 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vailability of Fee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Fodder Crops Grown at Gud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603360" y="1365120"/>
            <a:ext cx="79372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minant Fodder Crops Grown at Gudin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eterinary Servi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veterinary services are inadequately supplied to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assistant veterinarian for the Keb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vernment Veterinary service is f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vet services are too expensive for the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reeding Servic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 of AI – not available adequately, serving large population with one technician and few equip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semen and AI service – Gov’t it is 23Birr/c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it is 210 Birr/c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repeat services – at least 3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 of bull services – it is about 100Birr but mostly with free if the farmer friendship is well recognized and the bull is mostly lo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Problems, Issues, Opportunities within the Livestock Syst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problems faced by farmers and opportunit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1:  Artificial insemination service (A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service should be available in time and AI technicians need to be on their work place as they are sometime not available when they are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it should be provided to farmer AI technicians who are already tr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2:  Improved breeding stock (cow, heif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level of improved cow/heifer from known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3: F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age Seed with affordable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(concentrate) with good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4: Advisory ser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with research and ext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and experience sh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5:  Milk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capacity of local cooperative towards working in provision of input and use as the outlet of out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government to alleviate market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irwise Comparisons of Farmers’ Proble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35200" y="1371600"/>
            <a:ext cx="7318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irwise Comparisons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71884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85800" y="41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of milk as considered the most important problem, while livestock feeds was the least of their problems. Advisory service was not considered a problem at 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l Farming System 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931160" cy="4200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990720" y="1523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farm size (cultivable land) is 1.5 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household size is 7 per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24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fall pattern scored from 0 (not available) to 5 (highly avail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2819520"/>
          <a:ext cx="8686800" cy="1981080"/>
        </p:xfrm>
        <a:graphic>
          <a:graphicData uri="http://schemas.openxmlformats.org/drawingml/2006/table">
            <a:tbl>
              <a:tblPr/>
              <a:tblGrid>
                <a:gridCol w="762120"/>
                <a:gridCol w="574560"/>
                <a:gridCol w="668160"/>
                <a:gridCol w="668520"/>
                <a:gridCol w="668160"/>
                <a:gridCol w="668520"/>
                <a:gridCol w="666720"/>
                <a:gridCol w="668520"/>
                <a:gridCol w="668160"/>
                <a:gridCol w="668520"/>
                <a:gridCol w="668160"/>
                <a:gridCol w="668520"/>
                <a:gridCol w="668160"/>
              </a:tblGrid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onth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e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r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pr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u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e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ainf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infall Patter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pping Seasons at Godino District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219320"/>
          <a:ext cx="8915400" cy="2898720"/>
        </p:xfrm>
        <a:graphic>
          <a:graphicData uri="http://schemas.openxmlformats.org/drawingml/2006/table">
            <a:tbl>
              <a:tblPr/>
              <a:tblGrid>
                <a:gridCol w="860400"/>
                <a:gridCol w="511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0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ame o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as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e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r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pr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a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u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e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c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e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4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l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irr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6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h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228600" y="4540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rrigation is available to 85% of households through different land acquisition arrangements (rent, shar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146160" y="-6480"/>
            <a:ext cx="854712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b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is available, mostly family labour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ur requirement peaks during October – January (peak harvest 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e rate ranges  from 34 to 50 Birr per man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4% of the household members leave the farm for off-farm work or education da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44:44Z</dcterms:created>
  <dc:creator>toshiba</dc:creator>
  <dc:description/>
  <dc:language>en-US</dc:language>
  <cp:lastModifiedBy>PBallantyne</cp:lastModifiedBy>
  <dcterms:modified xsi:type="dcterms:W3CDTF">2012-03-21T10:36:28Z</dcterms:modified>
  <cp:revision>31</cp:revision>
  <dc:subject/>
  <dc:title>PRA report</dc:title>
</cp:coreProperties>
</file>